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C2D-8467-45E1-B3B1-442B2791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7F8-E4DD-4925-BFF5-70A2320D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860-B91F-4E61-8260-DAD81FFB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077-88CC-4AA3-809B-CD36F1EE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9FB-E210-450D-95BE-72ADBC4A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B14-4DF3-4E33-91E0-6982B7D0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307-6DD6-423C-B994-150F0E9B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D19-1065-47A8-8182-7C0F346B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CEC-FD9C-4387-A88D-5FC76357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4E9-6A4A-4695-B46B-FFC77E2F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9FB-E88C-423E-8523-3FD49C6A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9FA-00C2-4286-80FA-2F42F22D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DC44-0078-4A06-98E3-1769F37FFA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30160" y="4508280"/>
            <a:ext cx="5613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Ruqah2 Normal"/>
              </a:rPr>
              <a:t>ما أبهى نورك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3280" y="2707920"/>
            <a:ext cx="5940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ما أبهى نوركَ أيها المسيح ابن الله نور الحق والحياة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بك نهت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1280" y="2636640"/>
            <a:ext cx="5292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تشرق عليّ نوراً تضيء دربي إليك وبفرح لقائي آتيكَ ربّ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3280" y="2707920"/>
            <a:ext cx="5940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ما أبهى نوركَ أيها المسيح ابن الله نور الحق والحياة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بك نهت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9:52:04Z</dcterms:created>
  <dc:creator>Charbel Azar</dc:creator>
  <dc:description/>
  <dc:language>en-US</dc:language>
  <cp:lastModifiedBy>-</cp:lastModifiedBy>
  <dcterms:modified xsi:type="dcterms:W3CDTF">2003-01-30T06:48:53Z</dcterms:modified>
  <cp:revision>9</cp:revision>
  <dc:subject/>
  <dc:title>أنتَ المسيح ابن الله الحيّ</dc:title>
</cp:coreProperties>
</file>